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96C-C05D-4638-ADAE-C2AA021A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6BE-F113-4730-AFE9-C6EDCF80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830-F3D2-4A22-81DA-93F3A4E5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815-8C89-43AE-99FD-A9FC88F6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B98-5190-42AC-82B9-A2305109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BCD-D8DA-4E88-A5FD-8F6CAAD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996-EBCE-4186-B52D-E644C3AB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62B-04A5-4F38-91E1-D27F7FE3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C6A-D979-4690-A954-80FF2881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8F0-A783-458C-8C09-FCCFAA09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A54-A6D6-458D-98C4-0D25C05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35E-3E0B-4CEC-BD78-0A798E20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26EA-201F-4F45-9B78-F5DF098A50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" Target="slide55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37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38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39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0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1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2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3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4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5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6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8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49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" Target="slide78.xml"/><Relationship Id="rId7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68.xml"/><Relationship Id="rId6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68.xml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68.xml"/><Relationship Id="rId6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68.xml"/><Relationship Id="rId6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68.xml"/><Relationship Id="rId6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68.xml"/><Relationship Id="rId6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68.xml"/><Relationship Id="rId6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68.xml"/><Relationship Id="rId6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68.xml"/><Relationship Id="rId6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" Target="slide78.xml"/><Relationship Id="rId7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0600" y="29718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ekopla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resent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762120" y="5029200"/>
            <a:ext cx="7696080" cy="1447920"/>
            <a:chOff x="762120" y="5029200"/>
            <a:chExt cx="7696080" cy="1447920"/>
          </a:xfrm>
        </p:grpSpPr>
        <p:sp>
          <p:nvSpPr>
            <p:cNvPr id="83" name=""/>
            <p:cNvSpPr/>
            <p:nvPr/>
          </p:nvSpPr>
          <p:spPr>
            <a:xfrm>
              <a:off x="762120" y="5029200"/>
              <a:ext cx="7696080" cy="1447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280" y="518148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？？？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057400" y="518148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鹿を・・・・・・・・・・・・・・・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食ったな！！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25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AME OV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5908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っさん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5181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お，そうか。それはともかく，メ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8528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？？？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1814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あら，そこにいるのは かわうそさんじゃなくて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762120" y="5029200"/>
            <a:ext cx="7696080" cy="1447920"/>
            <a:chOff x="762120" y="5029200"/>
            <a:chExt cx="7696080" cy="1447920"/>
          </a:xfrm>
        </p:grpSpPr>
        <p:sp>
          <p:nvSpPr>
            <p:cNvPr id="103" name=""/>
            <p:cNvSpPr/>
            <p:nvPr/>
          </p:nvSpPr>
          <p:spPr>
            <a:xfrm>
              <a:off x="762120" y="5029200"/>
              <a:ext cx="7696080" cy="1447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85280" y="518148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？？？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133720" y="5181480"/>
            <a:ext cx="5333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やっぱりそうだ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何年ぶりかし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75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908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っさん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1814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うおう。いきなりだ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わうそ，この女は何者だ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1676520" y="5181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の人は親戚のおばさんで・・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1676520" y="571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の人は風呂の達人で・・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9020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風呂の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1814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そうです。風呂の達人で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さあ，風呂を入れましょう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25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風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5127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『湯入れボタン』を押して，風呂にお湯を入れてくださ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には時間がかかりますので，ひたすら待ち続けてくださ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133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さぁ，パワーポイントで，素敵なお風呂をいれましょ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" y="3657240"/>
            <a:ext cx="5562720" cy="2743560"/>
            <a:chOff x="685800" y="3657240"/>
            <a:chExt cx="5562720" cy="2743560"/>
          </a:xfrm>
        </p:grpSpPr>
        <p:sp>
          <p:nvSpPr>
            <p:cNvPr id="148" name=""/>
            <p:cNvSpPr/>
            <p:nvPr/>
          </p:nvSpPr>
          <p:spPr>
            <a:xfrm>
              <a:off x="685800" y="4343400"/>
              <a:ext cx="0" cy="20574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6391080"/>
              <a:ext cx="487692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562720" y="4343040"/>
              <a:ext cx="0" cy="20574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562720" y="5704920"/>
              <a:ext cx="685800" cy="6858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238800" y="3657240"/>
              <a:ext cx="0" cy="20574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4343400"/>
              <a:ext cx="487692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562720" y="3657240"/>
              <a:ext cx="685800" cy="6858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85800" y="3657240"/>
              <a:ext cx="685800" cy="6858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62240" y="3666960"/>
              <a:ext cx="487656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PT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アドベンチャ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.1.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7/1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4680" y="5883120"/>
            <a:ext cx="406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(c)2007  kawauso, nekopl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http://www.nekopla.com/nnk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50640" y="414504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ess the Left Mouse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4800600"/>
            <a:ext cx="6477120" cy="1600200"/>
          </a:xfrm>
          <a:prstGeom prst="parallelogram">
            <a:avLst>
              <a:gd name="adj" fmla="val 101192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57200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160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3581280"/>
            <a:ext cx="0" cy="243864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562720" y="5562720"/>
            <a:ext cx="685800" cy="84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6238800"/>
            <a:ext cx="4876920" cy="15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85800" y="4419720"/>
            <a:ext cx="6553080" cy="1828800"/>
            <a:chOff x="685800" y="4419720"/>
            <a:chExt cx="6553080" cy="1828800"/>
          </a:xfrm>
        </p:grpSpPr>
        <p:sp>
          <p:nvSpPr>
            <p:cNvPr id="188" name=""/>
            <p:cNvSpPr/>
            <p:nvPr/>
          </p:nvSpPr>
          <p:spPr>
            <a:xfrm>
              <a:off x="685800" y="46483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3000" y="44197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191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562720" y="5410080"/>
            <a:ext cx="685800" cy="1000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095880"/>
            <a:ext cx="4876920" cy="29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85800" y="4267080"/>
            <a:ext cx="6553080" cy="1828800"/>
            <a:chOff x="685800" y="4267080"/>
            <a:chExt cx="6553080" cy="1828800"/>
          </a:xfrm>
        </p:grpSpPr>
        <p:sp>
          <p:nvSpPr>
            <p:cNvPr id="219" name=""/>
            <p:cNvSpPr/>
            <p:nvPr/>
          </p:nvSpPr>
          <p:spPr>
            <a:xfrm>
              <a:off x="685800" y="449568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3000" y="426708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222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562720" y="5257800"/>
            <a:ext cx="685800" cy="115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34240"/>
            <a:ext cx="4876920" cy="44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4343400"/>
            <a:ext cx="6477120" cy="1600200"/>
          </a:xfrm>
          <a:prstGeom prst="parallelogram">
            <a:avLst>
              <a:gd name="adj" fmla="val 101192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411480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252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562720" y="5105520"/>
            <a:ext cx="685800" cy="130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5791320"/>
            <a:ext cx="4876920" cy="59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85800" y="3962520"/>
            <a:ext cx="6553080" cy="1828800"/>
            <a:chOff x="685800" y="3962520"/>
            <a:chExt cx="6553080" cy="1828800"/>
          </a:xfrm>
        </p:grpSpPr>
        <p:sp>
          <p:nvSpPr>
            <p:cNvPr id="280" name=""/>
            <p:cNvSpPr/>
            <p:nvPr/>
          </p:nvSpPr>
          <p:spPr>
            <a:xfrm>
              <a:off x="685800" y="41911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43000" y="39625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283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562720" y="4952880"/>
            <a:ext cx="685800" cy="145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5629320"/>
            <a:ext cx="4876920" cy="743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85800" y="3809880"/>
            <a:ext cx="6553080" cy="1828800"/>
            <a:chOff x="685800" y="3809880"/>
            <a:chExt cx="6553080" cy="1828800"/>
          </a:xfrm>
        </p:grpSpPr>
        <p:sp>
          <p:nvSpPr>
            <p:cNvPr id="311" name=""/>
            <p:cNvSpPr/>
            <p:nvPr/>
          </p:nvSpPr>
          <p:spPr>
            <a:xfrm>
              <a:off x="685800" y="403848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43000" y="380988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314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562720" y="4800600"/>
            <a:ext cx="685800" cy="160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5486400"/>
            <a:ext cx="4876920" cy="885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3657600"/>
            <a:ext cx="6553080" cy="1828800"/>
            <a:chOff x="685800" y="3657600"/>
            <a:chExt cx="6553080" cy="1828800"/>
          </a:xfrm>
        </p:grpSpPr>
        <p:sp>
          <p:nvSpPr>
            <p:cNvPr id="342" name=""/>
            <p:cNvSpPr/>
            <p:nvPr/>
          </p:nvSpPr>
          <p:spPr>
            <a:xfrm>
              <a:off x="685800" y="38862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43000" y="36576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345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5562720" y="4648320"/>
            <a:ext cx="685800" cy="176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5324400"/>
            <a:ext cx="4876920" cy="1073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85800" y="3505320"/>
            <a:ext cx="6553080" cy="1828800"/>
            <a:chOff x="685800" y="3505320"/>
            <a:chExt cx="6553080" cy="1828800"/>
          </a:xfrm>
        </p:grpSpPr>
        <p:sp>
          <p:nvSpPr>
            <p:cNvPr id="373" name=""/>
            <p:cNvSpPr/>
            <p:nvPr/>
          </p:nvSpPr>
          <p:spPr>
            <a:xfrm>
              <a:off x="685800" y="37339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43000" y="35053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376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562720" y="4495680"/>
            <a:ext cx="685800" cy="19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5181480"/>
            <a:ext cx="4876920" cy="1216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3352680"/>
            <a:ext cx="6553080" cy="1828800"/>
            <a:chOff x="685800" y="3352680"/>
            <a:chExt cx="6553080" cy="1828800"/>
          </a:xfrm>
        </p:grpSpPr>
        <p:sp>
          <p:nvSpPr>
            <p:cNvPr id="404" name=""/>
            <p:cNvSpPr/>
            <p:nvPr/>
          </p:nvSpPr>
          <p:spPr>
            <a:xfrm>
              <a:off x="685800" y="358128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43000" y="335268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407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562720" y="4343400"/>
            <a:ext cx="685800" cy="206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5019840"/>
            <a:ext cx="4876920" cy="136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85800" y="3200400"/>
            <a:ext cx="6553080" cy="1828800"/>
            <a:chOff x="685800" y="3200400"/>
            <a:chExt cx="6553080" cy="1828800"/>
          </a:xfrm>
        </p:grpSpPr>
        <p:sp>
          <p:nvSpPr>
            <p:cNvPr id="435" name=""/>
            <p:cNvSpPr/>
            <p:nvPr/>
          </p:nvSpPr>
          <p:spPr>
            <a:xfrm>
              <a:off x="685800" y="34290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3000" y="32004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438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562720" y="4191120"/>
            <a:ext cx="685800" cy="22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4876920"/>
            <a:ext cx="4876920" cy="1511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85800" y="3048120"/>
            <a:ext cx="6553080" cy="1828800"/>
            <a:chOff x="685800" y="3048120"/>
            <a:chExt cx="6553080" cy="1828800"/>
          </a:xfrm>
        </p:grpSpPr>
        <p:sp>
          <p:nvSpPr>
            <p:cNvPr id="466" name=""/>
            <p:cNvSpPr/>
            <p:nvPr/>
          </p:nvSpPr>
          <p:spPr>
            <a:xfrm>
              <a:off x="685800" y="32767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43000" y="30481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469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5562720" y="4038480"/>
            <a:ext cx="685800" cy="2371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4714920"/>
            <a:ext cx="4876920" cy="166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85800" y="2895480"/>
            <a:ext cx="6553080" cy="1828800"/>
            <a:chOff x="685800" y="2895480"/>
            <a:chExt cx="6553080" cy="1828800"/>
          </a:xfrm>
        </p:grpSpPr>
        <p:sp>
          <p:nvSpPr>
            <p:cNvPr id="497" name=""/>
            <p:cNvSpPr/>
            <p:nvPr/>
          </p:nvSpPr>
          <p:spPr>
            <a:xfrm>
              <a:off x="685800" y="312408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43000" y="289548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500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5562720" y="3886200"/>
            <a:ext cx="685800" cy="2523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4572000"/>
            <a:ext cx="4876920" cy="1806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85800" y="2743200"/>
            <a:ext cx="6553080" cy="1828800"/>
            <a:chOff x="685800" y="2743200"/>
            <a:chExt cx="6553080" cy="1828800"/>
          </a:xfrm>
        </p:grpSpPr>
        <p:sp>
          <p:nvSpPr>
            <p:cNvPr id="528" name=""/>
            <p:cNvSpPr/>
            <p:nvPr/>
          </p:nvSpPr>
          <p:spPr>
            <a:xfrm>
              <a:off x="685800" y="29718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43000" y="27432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531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562720" y="3733920"/>
            <a:ext cx="685800" cy="2676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4410000"/>
            <a:ext cx="4876920" cy="1959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85800" y="2590920"/>
            <a:ext cx="6553080" cy="1828800"/>
            <a:chOff x="685800" y="2590920"/>
            <a:chExt cx="6553080" cy="1828800"/>
          </a:xfrm>
        </p:grpSpPr>
        <p:sp>
          <p:nvSpPr>
            <p:cNvPr id="559" name=""/>
            <p:cNvSpPr/>
            <p:nvPr/>
          </p:nvSpPr>
          <p:spPr>
            <a:xfrm>
              <a:off x="685800" y="28195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43000" y="25909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562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rId2" action="ppaction://hlinksldjump"/>
          </p:cNvPr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5562720" y="3657600"/>
            <a:ext cx="685800" cy="2752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4343400"/>
            <a:ext cx="4876920" cy="202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85800" y="2514600"/>
            <a:ext cx="6553080" cy="1828800"/>
            <a:chOff x="685800" y="2514600"/>
            <a:chExt cx="6553080" cy="1828800"/>
          </a:xfrm>
        </p:grpSpPr>
        <p:sp>
          <p:nvSpPr>
            <p:cNvPr id="590" name=""/>
            <p:cNvSpPr/>
            <p:nvPr/>
          </p:nvSpPr>
          <p:spPr>
            <a:xfrm>
              <a:off x="685800" y="27432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143000" y="25146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593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28600" y="5029200"/>
            <a:ext cx="6400800" cy="2057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2720" y="3657600"/>
            <a:ext cx="685800" cy="2752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4343400"/>
            <a:ext cx="4876920" cy="202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685800" y="2514600"/>
            <a:ext cx="6553080" cy="1828800"/>
            <a:chOff x="685800" y="2514600"/>
            <a:chExt cx="6553080" cy="1828800"/>
          </a:xfrm>
        </p:grpSpPr>
        <p:sp>
          <p:nvSpPr>
            <p:cNvPr id="621" name=""/>
            <p:cNvSpPr/>
            <p:nvPr/>
          </p:nvSpPr>
          <p:spPr>
            <a:xfrm>
              <a:off x="685800" y="27432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43000" y="25146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624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75248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・・お湯をい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3581280"/>
            <a:ext cx="0" cy="205740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85800" y="4800600"/>
            <a:ext cx="6477120" cy="1600200"/>
          </a:xfrm>
          <a:prstGeom prst="parallelogram">
            <a:avLst>
              <a:gd name="adj" fmla="val 101192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3000" y="457200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652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752480" y="9144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くわっっ！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なんだこの湯は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んな湯に入れるか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25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75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562720" y="5562720"/>
            <a:ext cx="685800" cy="84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6238800"/>
            <a:ext cx="4876920" cy="15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85800" y="4419720"/>
            <a:ext cx="6553080" cy="1828800"/>
            <a:chOff x="685800" y="4419720"/>
            <a:chExt cx="6553080" cy="1828800"/>
          </a:xfrm>
        </p:grpSpPr>
        <p:sp>
          <p:nvSpPr>
            <p:cNvPr id="682" name=""/>
            <p:cNvSpPr/>
            <p:nvPr/>
          </p:nvSpPr>
          <p:spPr>
            <a:xfrm>
              <a:off x="685800" y="46483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43000" y="44197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685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9144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くわっっ！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なんだこの湯は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んな湯に入れるか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25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75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5562720" y="5410080"/>
            <a:ext cx="685800" cy="1000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85800" y="6095880"/>
            <a:ext cx="4876920" cy="29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85800" y="4267080"/>
            <a:ext cx="6553080" cy="1828800"/>
            <a:chOff x="685800" y="4267080"/>
            <a:chExt cx="6553080" cy="1828800"/>
          </a:xfrm>
        </p:grpSpPr>
        <p:sp>
          <p:nvSpPr>
            <p:cNvPr id="714" name=""/>
            <p:cNvSpPr/>
            <p:nvPr/>
          </p:nvSpPr>
          <p:spPr>
            <a:xfrm>
              <a:off x="685800" y="449568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43000" y="426708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717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752480" y="9144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くわっっ！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なんだこの湯は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んな湯に入れるか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25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75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562720" y="5257800"/>
            <a:ext cx="685800" cy="115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5800" y="5934240"/>
            <a:ext cx="4876920" cy="44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4343400"/>
            <a:ext cx="6477120" cy="1600200"/>
          </a:xfrm>
          <a:prstGeom prst="parallelogram">
            <a:avLst>
              <a:gd name="adj" fmla="val 101192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43000" y="411480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748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752480" y="9144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くわっっ！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なんだこの湯は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んな湯に入れるか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25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75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8140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わうそ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51814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今日は宮島にやってきた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赤い鳥居がキレイだな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7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5562720" y="5105520"/>
            <a:ext cx="685800" cy="130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5791320"/>
            <a:ext cx="4876920" cy="59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85800" y="3962520"/>
            <a:ext cx="6553080" cy="1828800"/>
            <a:chOff x="685800" y="3962520"/>
            <a:chExt cx="6553080" cy="1828800"/>
          </a:xfrm>
        </p:grpSpPr>
        <p:sp>
          <p:nvSpPr>
            <p:cNvPr id="777" name=""/>
            <p:cNvSpPr/>
            <p:nvPr/>
          </p:nvSpPr>
          <p:spPr>
            <a:xfrm>
              <a:off x="685800" y="41911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43000" y="39625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780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52480" y="914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ちょっと湯が少なくないです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では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2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点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す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75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375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5562720" y="4952880"/>
            <a:ext cx="685800" cy="145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5800" y="5629320"/>
            <a:ext cx="4876920" cy="743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685800" y="3809880"/>
            <a:ext cx="6553080" cy="1828800"/>
            <a:chOff x="685800" y="3809880"/>
            <a:chExt cx="6553080" cy="1828800"/>
          </a:xfrm>
        </p:grpSpPr>
        <p:sp>
          <p:nvSpPr>
            <p:cNvPr id="809" name=""/>
            <p:cNvSpPr/>
            <p:nvPr/>
          </p:nvSpPr>
          <p:spPr>
            <a:xfrm>
              <a:off x="685800" y="403848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43000" y="380988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812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752480" y="914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ちょっと湯が少なくないです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では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24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点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す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95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45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5562720" y="4800600"/>
            <a:ext cx="685800" cy="160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85800" y="5486400"/>
            <a:ext cx="4876920" cy="885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685800" y="3657600"/>
            <a:ext cx="6553080" cy="1828800"/>
            <a:chOff x="685800" y="3657600"/>
            <a:chExt cx="6553080" cy="1828800"/>
          </a:xfrm>
        </p:grpSpPr>
        <p:sp>
          <p:nvSpPr>
            <p:cNvPr id="841" name=""/>
            <p:cNvSpPr/>
            <p:nvPr/>
          </p:nvSpPr>
          <p:spPr>
            <a:xfrm>
              <a:off x="685800" y="38862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43000" y="36576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844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914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ちょっと湯が少なくないです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なら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62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点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す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5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45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5562720" y="4648320"/>
            <a:ext cx="685800" cy="176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85800" y="5324400"/>
            <a:ext cx="4876920" cy="1073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85800" y="3505320"/>
            <a:ext cx="6553080" cy="1828800"/>
            <a:chOff x="685800" y="3505320"/>
            <a:chExt cx="6553080" cy="1828800"/>
          </a:xfrm>
        </p:grpSpPr>
        <p:sp>
          <p:nvSpPr>
            <p:cNvPr id="873" name=""/>
            <p:cNvSpPr/>
            <p:nvPr/>
          </p:nvSpPr>
          <p:spPr>
            <a:xfrm>
              <a:off x="685800" y="37339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143000" y="35053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876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752480" y="914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い具合に湯が入って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は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78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点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す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725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225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562720" y="4495680"/>
            <a:ext cx="685800" cy="19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5800" y="5181480"/>
            <a:ext cx="4876920" cy="1216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685800" y="3352680"/>
            <a:ext cx="6553080" cy="1828800"/>
            <a:chOff x="685800" y="3352680"/>
            <a:chExt cx="6553080" cy="1828800"/>
          </a:xfrm>
        </p:grpSpPr>
        <p:sp>
          <p:nvSpPr>
            <p:cNvPr id="905" name=""/>
            <p:cNvSpPr/>
            <p:nvPr/>
          </p:nvSpPr>
          <p:spPr>
            <a:xfrm>
              <a:off x="685800" y="358128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43000" y="335268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908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2480" y="914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さすがです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だと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92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点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出来で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5562720" y="4343400"/>
            <a:ext cx="685800" cy="206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5800" y="5019840"/>
            <a:ext cx="4876920" cy="136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685800" y="3200400"/>
            <a:ext cx="6553080" cy="1828800"/>
            <a:chOff x="685800" y="3200400"/>
            <a:chExt cx="6553080" cy="1828800"/>
          </a:xfrm>
        </p:grpSpPr>
        <p:sp>
          <p:nvSpPr>
            <p:cNvPr id="937" name=""/>
            <p:cNvSpPr/>
            <p:nvPr/>
          </p:nvSpPr>
          <p:spPr>
            <a:xfrm>
              <a:off x="685800" y="34290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143000" y="32004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940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52480" y="914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さすがです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は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96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点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湯で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5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85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5562720" y="4191120"/>
            <a:ext cx="685800" cy="221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4876920"/>
            <a:ext cx="4876920" cy="1511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685800" y="3048120"/>
            <a:ext cx="6553080" cy="1828800"/>
            <a:chOff x="685800" y="3048120"/>
            <a:chExt cx="6553080" cy="1828800"/>
          </a:xfrm>
        </p:grpSpPr>
        <p:sp>
          <p:nvSpPr>
            <p:cNvPr id="969" name=""/>
            <p:cNvSpPr/>
            <p:nvPr/>
          </p:nvSpPr>
          <p:spPr>
            <a:xfrm>
              <a:off x="685800" y="32767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143000" y="30481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972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752480" y="914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ちょっと入れすぎま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は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63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点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くらいで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8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3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5562720" y="4038480"/>
            <a:ext cx="685800" cy="2371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" y="4714920"/>
            <a:ext cx="4876920" cy="166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5800" y="2895480"/>
            <a:ext cx="6553080" cy="1828800"/>
            <a:chOff x="685800" y="2895480"/>
            <a:chExt cx="6553080" cy="1828800"/>
          </a:xfrm>
        </p:grpSpPr>
        <p:sp>
          <p:nvSpPr>
            <p:cNvPr id="1001" name=""/>
            <p:cNvSpPr/>
            <p:nvPr/>
          </p:nvSpPr>
          <p:spPr>
            <a:xfrm>
              <a:off x="685800" y="312408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43000" y="289548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1004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52480" y="914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れすぎました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だと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32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点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25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25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5562720" y="3886200"/>
            <a:ext cx="685800" cy="2523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4572000"/>
            <a:ext cx="4876920" cy="1806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685800" y="2743200"/>
            <a:ext cx="6553080" cy="1828800"/>
            <a:chOff x="685800" y="2743200"/>
            <a:chExt cx="6553080" cy="1828800"/>
          </a:xfrm>
        </p:grpSpPr>
        <p:sp>
          <p:nvSpPr>
            <p:cNvPr id="1033" name=""/>
            <p:cNvSpPr/>
            <p:nvPr/>
          </p:nvSpPr>
          <p:spPr>
            <a:xfrm>
              <a:off x="685800" y="29718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43000" y="27432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1036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752480" y="9144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う少しで溢れるところで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では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11 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点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いいとこ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175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675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5562720" y="3733920"/>
            <a:ext cx="685800" cy="2676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4410000"/>
            <a:ext cx="4876920" cy="1959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685800" y="2590920"/>
            <a:ext cx="6553080" cy="1828800"/>
            <a:chOff x="685800" y="2590920"/>
            <a:chExt cx="6553080" cy="1828800"/>
          </a:xfrm>
        </p:grpSpPr>
        <p:sp>
          <p:nvSpPr>
            <p:cNvPr id="1065" name=""/>
            <p:cNvSpPr/>
            <p:nvPr/>
          </p:nvSpPr>
          <p:spPr>
            <a:xfrm>
              <a:off x="685800" y="281952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143000" y="259092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1068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752480" y="9144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くわっっ！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なんだこの湯は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んな湯に入れるか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25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75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762120" y="5029200"/>
            <a:ext cx="7696080" cy="1447920"/>
            <a:chOff x="762120" y="5029200"/>
            <a:chExt cx="7696080" cy="1447920"/>
          </a:xfrm>
        </p:grpSpPr>
        <p:sp>
          <p:nvSpPr>
            <p:cNvPr id="55" name=""/>
            <p:cNvSpPr/>
            <p:nvPr/>
          </p:nvSpPr>
          <p:spPr>
            <a:xfrm>
              <a:off x="762120" y="5029200"/>
              <a:ext cx="7696080" cy="1447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59080" y="518148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おっさん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0968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お，かわうそじゃねぇ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975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5562720" y="3657600"/>
            <a:ext cx="685800" cy="2752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5800" y="4343400"/>
            <a:ext cx="4876920" cy="202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85800" y="2514600"/>
            <a:ext cx="6553080" cy="1828800"/>
            <a:chOff x="685800" y="2514600"/>
            <a:chExt cx="6553080" cy="1828800"/>
          </a:xfrm>
        </p:grpSpPr>
        <p:sp>
          <p:nvSpPr>
            <p:cNvPr id="1097" name=""/>
            <p:cNvSpPr/>
            <p:nvPr/>
          </p:nvSpPr>
          <p:spPr>
            <a:xfrm>
              <a:off x="685800" y="27432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143000" y="25146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1100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752480" y="9144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くわっっ！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なんだこの湯は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んな湯に入れるか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25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75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28600" y="5029200"/>
            <a:ext cx="6400800" cy="2057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562720" y="3657600"/>
            <a:ext cx="685800" cy="2752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" y="4343400"/>
            <a:ext cx="4876920" cy="202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685800" y="2514600"/>
            <a:ext cx="6553080" cy="1828800"/>
            <a:chOff x="685800" y="2514600"/>
            <a:chExt cx="6553080" cy="1828800"/>
          </a:xfrm>
        </p:grpSpPr>
        <p:sp>
          <p:nvSpPr>
            <p:cNvPr id="1129" name=""/>
            <p:cNvSpPr/>
            <p:nvPr/>
          </p:nvSpPr>
          <p:spPr>
            <a:xfrm>
              <a:off x="685800" y="2743200"/>
              <a:ext cx="6477120" cy="1600200"/>
            </a:xfrm>
            <a:prstGeom prst="parallelogram">
              <a:avLst>
                <a:gd name="adj" fmla="val 101192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143000" y="2514600"/>
              <a:ext cx="60958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685800" y="3657600"/>
            <a:ext cx="5562720" cy="2742840"/>
            <a:chOff x="685800" y="3657600"/>
            <a:chExt cx="5562720" cy="2742840"/>
          </a:xfrm>
        </p:grpSpPr>
        <p:sp>
          <p:nvSpPr>
            <p:cNvPr id="1132" name=""/>
            <p:cNvSpPr/>
            <p:nvPr/>
          </p:nvSpPr>
          <p:spPr>
            <a:xfrm flipV="1">
              <a:off x="685800" y="571464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371600" y="571500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3716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6781680" y="3809880"/>
            <a:ext cx="2057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400800" y="609480"/>
            <a:ext cx="1981080" cy="1905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rcRect l="0" t="0" r="0" b="53074"/>
          <a:stretch/>
        </p:blipFill>
        <p:spPr>
          <a:xfrm>
            <a:off x="6553080" y="76212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609480" y="609480"/>
            <a:ext cx="5562720" cy="1905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752480" y="91440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が溢れてるよ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馬鹿者が！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40840" y="9144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80880" y="3276720"/>
            <a:ext cx="114300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447920" y="3276720"/>
            <a:ext cx="15228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010280" y="45720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入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01028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湯を止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50400" y="39625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風呂</a:t>
            </a:r>
            <a:r>
              <a:rPr b="0" lang="ja-JP" sz="2400" spc="-1" strike="noStrike">
                <a:solidFill>
                  <a:srgbClr val="ff66cc"/>
                </a:solidFill>
                <a:latin typeface="Times New Roman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85800" y="434340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85800" y="639144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5562720" y="43430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562720" y="570528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238800" y="3657240"/>
            <a:ext cx="0" cy="20574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56272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85800" y="3657240"/>
            <a:ext cx="685800" cy="6858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362240" y="3666960"/>
            <a:ext cx="48765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5800" y="434340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486400" y="56386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0"/>
                </a:lnTo>
                <a:lnTo>
                  <a:pt x="528" y="528"/>
                </a:lnTo>
                <a:lnTo>
                  <a:pt x="0" y="528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638680" y="182880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809880" y="27432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35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85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grpSp>
        <p:nvGrpSpPr>
          <p:cNvPr id="1160" name=""/>
          <p:cNvGrpSpPr/>
          <p:nvPr/>
        </p:nvGrpSpPr>
        <p:grpSpPr>
          <a:xfrm>
            <a:off x="762120" y="5029200"/>
            <a:ext cx="7696080" cy="1447920"/>
            <a:chOff x="762120" y="5029200"/>
            <a:chExt cx="7696080" cy="1447920"/>
          </a:xfrm>
        </p:grpSpPr>
        <p:sp>
          <p:nvSpPr>
            <p:cNvPr id="1161" name=""/>
            <p:cNvSpPr/>
            <p:nvPr/>
          </p:nvSpPr>
          <p:spPr>
            <a:xfrm>
              <a:off x="762120" y="5029200"/>
              <a:ext cx="7696080" cy="1447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459080" y="518148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おっさん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2209680" y="51814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さすが風呂の達人がアドバイスした風呂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すごい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375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69020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風呂の達人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668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えいえ，それほどの風呂でもありません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75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8140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わうそ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その後，二人の『風呂』談義は，二時間経っても途切れることはなかっ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5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2336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キヨ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98108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宮島の旅館で女将をしているアキヨと申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65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32336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キヨ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わうそさんは，私の姉の娘の夫の母親の姉妹の孫にあたる遠い親戚な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5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5908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っさん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209680" y="51814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お，そうだったの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ええと，かわうそはあんたの姉の・・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175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rId3" action="ppaction://hlinksldjump"/>
          </p:cNvPr>
          <p:cNvSpPr/>
          <p:nvPr/>
        </p:nvSpPr>
        <p:spPr>
          <a:xfrm>
            <a:off x="1676520" y="5181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姉の娘の夫の母親の姉妹の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>
            <a:hlinkClick r:id="" action="ppaction://hlinkshowjump?jump=nextslide"/>
          </p:cNvPr>
          <p:cNvSpPr/>
          <p:nvPr/>
        </p:nvSpPr>
        <p:spPr>
          <a:xfrm>
            <a:off x="1676520" y="571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姉の娘の母親の姉妹の夫の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32336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キヨ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8108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違います。あなたは本物のかわうそさんではないですね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95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908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っさん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51814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んなところで会うとは奇遇だ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前さんも観光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75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32336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キヨ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81080" y="518148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・・・・・・・・・・・・・・・・・・・・・・・・・・・・・・・・・・・・・・・・・・・・・・・・・・・・・・・・・・・・・・・・・・・・・・・・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5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AME OV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32336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キヨ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981080" y="51814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久しぶりね，かわうそさ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そちらの方は・・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65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2336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キヨ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981080" y="51814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・・あ。あなたがかわうそさんの知り合いのおっさんですね。噂はお聞きしており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75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238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32336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キヨ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981080" y="51814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こで会ったのも何かの縁，ぜひ私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『肉ジャンプ』で勝負してくれません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7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245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45908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っさん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209680" y="51814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お，あんたも『肉ジャンプ』をやるの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いよ，一勝負しよ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325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肉ジャン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77240" y="525780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ボタンを押して，肉をジャンプさせてくださ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あと，あんまりボタンを連打しない方がいい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1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>
            <a:hlinkClick r:id="rId1" action="ppaction://hlinksldjump"/>
          </p:cNvPr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" descr=""/>
          <p:cNvPicPr/>
          <p:nvPr/>
        </p:nvPicPr>
        <p:blipFill>
          <a:blip r:embed="rId3"/>
          <a:stretch/>
        </p:blipFill>
        <p:spPr>
          <a:xfrm>
            <a:off x="3886200" y="510552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1259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4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/>
          <p:cNvPicPr/>
          <p:nvPr/>
        </p:nvPicPr>
        <p:blipFill>
          <a:blip r:embed="rId5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265" name="">
            <a:hlinkClick r:id="rId6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0" name="" descr=""/>
          <p:cNvPicPr/>
          <p:nvPr/>
        </p:nvPicPr>
        <p:blipFill>
          <a:blip r:embed="rId2"/>
          <a:stretch/>
        </p:blipFill>
        <p:spPr>
          <a:xfrm>
            <a:off x="3886200" y="510552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1271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4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277" name="">
            <a:hlinkClick r:id="rId5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3886200" y="487692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3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4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289" name="">
            <a:hlinkClick r:id="rId5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1676520" y="5181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そうだ。日本三景を制覇しようと思って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1676520" y="571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や，俺は鹿を食べに来たん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523880" cy="695520"/>
          </a:xfrm>
          <a:prstGeom prst="rect">
            <a:avLst/>
          </a:prstGeom>
          <a:ln w="0">
            <a:noFill/>
          </a:ln>
        </p:spPr>
      </p:pic>
      <p:sp>
        <p:nvSpPr>
          <p:cNvPr id="1295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3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4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301" name="">
            <a:hlinkClick r:id="rId5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2"/>
          <a:stretch/>
        </p:blipFill>
        <p:spPr>
          <a:xfrm>
            <a:off x="3886200" y="464832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3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4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313" name="">
            <a:hlinkClick r:id="rId5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3886200" y="456264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324" name="" descr=""/>
          <p:cNvPicPr/>
          <p:nvPr/>
        </p:nvPicPr>
        <p:blipFill>
          <a:blip r:embed="rId4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325" name="">
            <a:hlinkClick r:id="rId5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2"/>
          <a:stretch/>
        </p:blipFill>
        <p:spPr>
          <a:xfrm>
            <a:off x="3886200" y="456264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1331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336" name="" descr=""/>
          <p:cNvPicPr/>
          <p:nvPr/>
        </p:nvPicPr>
        <p:blipFill>
          <a:blip r:embed="rId4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337" name="">
            <a:hlinkClick r:id="rId5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2"/>
          <a:stretch/>
        </p:blipFill>
        <p:spPr>
          <a:xfrm>
            <a:off x="3886200" y="464832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3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348" name="" descr=""/>
          <p:cNvPicPr/>
          <p:nvPr/>
        </p:nvPicPr>
        <p:blipFill>
          <a:blip r:embed="rId4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349" name="">
            <a:hlinkClick r:id="rId5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523880" cy="695520"/>
          </a:xfrm>
          <a:prstGeom prst="rect">
            <a:avLst/>
          </a:prstGeom>
          <a:ln w="0">
            <a:noFill/>
          </a:ln>
        </p:spPr>
      </p:pic>
      <p:sp>
        <p:nvSpPr>
          <p:cNvPr id="1355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3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/>
          <p:cNvPicPr/>
          <p:nvPr/>
        </p:nvPicPr>
        <p:blipFill>
          <a:blip r:embed="rId4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361" name="">
            <a:hlinkClick r:id="rId5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2"/>
          <a:stretch/>
        </p:blipFill>
        <p:spPr>
          <a:xfrm>
            <a:off x="3886200" y="487692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1" name="" descr=""/>
          <p:cNvPicPr/>
          <p:nvPr/>
        </p:nvPicPr>
        <p:blipFill>
          <a:blip r:embed="rId3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372" name="" descr=""/>
          <p:cNvPicPr/>
          <p:nvPr/>
        </p:nvPicPr>
        <p:blipFill>
          <a:blip r:embed="rId4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373" name="">
            <a:hlinkClick r:id="rId5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>
            <a:hlinkClick r:id="rId1" action="ppaction://hlinksldjump"/>
          </p:cNvPr>
          <p:cNvSpPr/>
          <p:nvPr/>
        </p:nvSpPr>
        <p:spPr>
          <a:xfrm>
            <a:off x="739152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ジャン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04920" y="5486400"/>
            <a:ext cx="8381880" cy="762120"/>
          </a:xfrm>
          <a:prstGeom prst="parallelogram">
            <a:avLst>
              <a:gd name="adj" fmla="val -23224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3"/>
          <a:stretch/>
        </p:blipFill>
        <p:spPr>
          <a:xfrm>
            <a:off x="3886200" y="510552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533520"/>
            <a:ext cx="9144000" cy="457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" descr=""/>
          <p:cNvPicPr/>
          <p:nvPr/>
        </p:nvPicPr>
        <p:blipFill>
          <a:blip r:embed="rId4"/>
          <a:stretch/>
        </p:blipFill>
        <p:spPr>
          <a:xfrm>
            <a:off x="6232680" y="2057400"/>
            <a:ext cx="2911320" cy="328608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5"/>
          <a:stretch/>
        </p:blipFill>
        <p:spPr>
          <a:xfrm>
            <a:off x="-380880" y="2209680"/>
            <a:ext cx="2911320" cy="3286080"/>
          </a:xfrm>
          <a:prstGeom prst="rect">
            <a:avLst/>
          </a:prstGeom>
          <a:ln w="0">
            <a:noFill/>
          </a:ln>
        </p:spPr>
      </p:pic>
      <p:sp>
        <p:nvSpPr>
          <p:cNvPr id="1385" name="">
            <a:hlinkClick r:id="rId6" action="ppaction://hlinksldjump"/>
          </p:cNvPr>
          <p:cNvSpPr/>
          <p:nvPr/>
        </p:nvSpPr>
        <p:spPr>
          <a:xfrm>
            <a:off x="304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grpSp>
        <p:nvGrpSpPr>
          <p:cNvPr id="1388" name=""/>
          <p:cNvGrpSpPr/>
          <p:nvPr/>
        </p:nvGrpSpPr>
        <p:grpSpPr>
          <a:xfrm>
            <a:off x="762120" y="5029200"/>
            <a:ext cx="7696080" cy="1447920"/>
            <a:chOff x="762120" y="5029200"/>
            <a:chExt cx="7696080" cy="1447920"/>
          </a:xfrm>
        </p:grpSpPr>
        <p:sp>
          <p:nvSpPr>
            <p:cNvPr id="1389" name=""/>
            <p:cNvSpPr/>
            <p:nvPr/>
          </p:nvSpPr>
          <p:spPr>
            <a:xfrm>
              <a:off x="762120" y="5029200"/>
              <a:ext cx="7696080" cy="1447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459080" y="518148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おっさん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220968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なかなかいい『肉ジャンプ』だった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85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1751040" cy="37339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16200" cy="346860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32336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キヨ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981080" y="51814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さすがおっさんで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れほどの『肉ジャンプ』とは・・・・・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25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762120" y="5029200"/>
            <a:ext cx="7696080" cy="1447920"/>
            <a:chOff x="762120" y="5029200"/>
            <a:chExt cx="7696080" cy="1447920"/>
          </a:xfrm>
        </p:grpSpPr>
        <p:sp>
          <p:nvSpPr>
            <p:cNvPr id="74" name=""/>
            <p:cNvSpPr/>
            <p:nvPr/>
          </p:nvSpPr>
          <p:spPr>
            <a:xfrm>
              <a:off x="762120" y="5029200"/>
              <a:ext cx="7696080" cy="1447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81400" y="518148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かわうそ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209680" y="518148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むしゃむしゃむしゃ…………………… ………………？？？？？？？？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48140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わうそ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20968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その後，二人の『肉ジャンプ』談義は，二時間経っても途切れることはなかっ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775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762120" y="5029200"/>
            <a:ext cx="7696080" cy="144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481400" y="518148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わうそ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20968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い加減うんざりしたおれは，こっそり船に乗って宮島を発つことに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391520" y="2286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/2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cc3300"/>
                </a:solidFill>
                <a:latin typeface="Times New Roman"/>
              </a:rPr>
              <a:t>日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5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12" name=""/>
          <p:cNvGrpSpPr/>
          <p:nvPr/>
        </p:nvGrpSpPr>
        <p:grpSpPr>
          <a:xfrm>
            <a:off x="762120" y="5029200"/>
            <a:ext cx="7696080" cy="1447920"/>
            <a:chOff x="762120" y="5029200"/>
            <a:chExt cx="7696080" cy="1447920"/>
          </a:xfrm>
        </p:grpSpPr>
        <p:sp>
          <p:nvSpPr>
            <p:cNvPr id="1413" name=""/>
            <p:cNvSpPr/>
            <p:nvPr/>
          </p:nvSpPr>
          <p:spPr>
            <a:xfrm>
              <a:off x="762120" y="5029200"/>
              <a:ext cx="7696080" cy="1447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81400" y="518148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かわうそ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09680" y="5181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うしておれの長い夏は，ようやく終ったん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5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15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99400" y="-11049120"/>
            <a:ext cx="2521440" cy="1594332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原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かわうそ　「日本三景をめぐる旅」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N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出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脚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川獺　太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演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川獺　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製作・著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66cc"/>
                </a:solidFill>
                <a:latin typeface="Arial"/>
              </a:rPr>
              <a:t>N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62120" y="5029200"/>
            <a:ext cx="7696080" cy="1447920"/>
            <a:chOff x="762120" y="5029200"/>
            <a:chExt cx="7696080" cy="1447920"/>
          </a:xfrm>
        </p:grpSpPr>
        <p:sp>
          <p:nvSpPr>
            <p:cNvPr id="78" name=""/>
            <p:cNvSpPr/>
            <p:nvPr/>
          </p:nvSpPr>
          <p:spPr>
            <a:xfrm>
              <a:off x="762120" y="5029200"/>
              <a:ext cx="7696080" cy="1447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81400" y="5181480"/>
              <a:ext cx="30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かわうそ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209680" y="518148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こはどこ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れは一体どうしちまったん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6095880"/>
            <a:ext cx="228600" cy="22860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1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1:00:32Z</dcterms:created>
  <dc:creator>kawauso</dc:creator>
  <dc:description/>
  <dc:language>en-US</dc:language>
  <cp:lastModifiedBy>kawauso</cp:lastModifiedBy>
  <dcterms:modified xsi:type="dcterms:W3CDTF">2007-01-29T06:33:18Z</dcterms:modified>
  <cp:revision>50</cp:revision>
  <dc:subject/>
  <dc:title>アドベンチャーPPT</dc:title>
</cp:coreProperties>
</file>